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wmf" ContentType="image/x-wmf"/>
  <Override PartName="/ppt/media/image4.jpeg" ContentType="image/jpeg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7133-8AB4-4FB2-98EA-5091E6126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494F-795C-4A5B-B55E-3D3383947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52B3-2971-4819-8EBA-8A17709F1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FEB4-84F9-428E-BF21-B1B21E14E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0786-D051-4B02-A7D5-BBDB4DA86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0ECF-EA4B-40C3-979C-90A4D7C2B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CA7F-0115-48AA-8DF8-60258AA61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55FA-0851-437A-85F0-F1418F0A5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E06D-5374-4989-948B-99297A7E2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69A8-2178-4737-AFFD-79602C1D8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43F0-2DEA-4FEC-9B10-457536D44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15E5-3607-44A5-A421-28292182C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9B1FC-1BDC-4194-950F-C7AB610B54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564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Kristen ITC"/>
              </a:rPr>
              <a:t>Order of the plane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743200" y="5805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Sarah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5651640" y="2349360"/>
            <a:ext cx="2914560" cy="24544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Comic Sans MS"/>
              </a:rPr>
              <a:t>Pluto- Pi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012000" y="2492280"/>
            <a:ext cx="2233440" cy="20890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3059280" y="0"/>
            <a:ext cx="374472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Kristen ITC"/>
              </a:rPr>
              <a:t>Pluto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Kristen ITC"/>
              <a:ea typeface="Kristen ITC"/>
            </a:endParaRPr>
          </a:p>
        </p:txBody>
      </p:sp>
      <p:sp>
        <p:nvSpPr>
          <p:cNvPr id="122" name=""/>
          <p:cNvSpPr/>
          <p:nvPr/>
        </p:nvSpPr>
        <p:spPr>
          <a:xfrm>
            <a:off x="468360" y="3178080"/>
            <a:ext cx="4608360" cy="376812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Pluto is 5.8 billion kilometres from the su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There are 3 satellites on Plu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Two of there names are Charon and Nix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Pluto is the smallest pla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It was renamed a dwarf planet a little while a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940360" y="5734080"/>
            <a:ext cx="1008000" cy="863640"/>
          </a:xfrm>
          <a:prstGeom prst="star5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116000" y="836640"/>
            <a:ext cx="1008000" cy="863640"/>
          </a:xfrm>
          <a:prstGeom prst="star5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812000" y="5589720"/>
            <a:ext cx="1008000" cy="863640"/>
          </a:xfrm>
          <a:prstGeom prst="star5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451640" y="620640"/>
            <a:ext cx="1008000" cy="863640"/>
          </a:xfrm>
          <a:prstGeom prst="star5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332000" y="621648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Comic Sans MS"/>
              </a:rPr>
              <a:t>i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8360" y="0"/>
            <a:ext cx="1116000" cy="685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M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V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M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J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U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P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30" name=""/>
          <p:cNvSpPr/>
          <p:nvPr/>
        </p:nvSpPr>
        <p:spPr>
          <a:xfrm>
            <a:off x="1835280" y="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47640" y="692280"/>
            <a:ext cx="39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Comic Sans MS"/>
              </a:rPr>
              <a:t>e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76360" y="155736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Comic Sans MS"/>
              </a:rPr>
              <a:t>xcid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19280" y="227664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Comic Sans MS"/>
              </a:rPr>
              <a:t>onk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03280" y="314172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Comic Sans MS"/>
              </a:rPr>
              <a:t>uggl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547640" y="3933720"/>
            <a:ext cx="39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Comic Sans MS"/>
              </a:rPr>
              <a:t>andwich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547640" y="4724280"/>
            <a:ext cx="39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547640" y="5589720"/>
            <a:ext cx="39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Comic Sans MS"/>
              </a:rPr>
              <a:t>augh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564000" y="5172120"/>
            <a:ext cx="4676760" cy="1685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The End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012000" y="2060640"/>
            <a:ext cx="2881080" cy="2454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Comic Sans MS"/>
              </a:rPr>
              <a:t>Mercury- M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340000" y="260280"/>
            <a:ext cx="357804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ercury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300720" y="2133720"/>
            <a:ext cx="2314800" cy="2190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95280" y="3284640"/>
            <a:ext cx="4319640" cy="33508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AU" sz="1800" spc="-1" strike="noStrike">
                <a:solidFill>
                  <a:srgbClr val="ffffff"/>
                </a:solidFill>
                <a:latin typeface="Comic Sans MS"/>
              </a:rPr>
              <a:t>Mercury is the closest planet to the su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Comic Sans MS"/>
              </a:rPr>
              <a:t>Mercury is 58,000,000 kilometres from the su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Comic Sans MS"/>
              </a:rPr>
              <a:t>1 Mercury day is 58 earth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Comic Sans MS"/>
              </a:rPr>
              <a:t>The average surface temperature in 460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º Celsi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80000" y="5589720"/>
            <a:ext cx="1008000" cy="863640"/>
          </a:xfrm>
          <a:prstGeom prst="star5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596360" y="5589720"/>
            <a:ext cx="1008000" cy="863640"/>
          </a:xfrm>
          <a:prstGeom prst="star5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77080" y="476280"/>
            <a:ext cx="1008000" cy="863640"/>
          </a:xfrm>
          <a:prstGeom prst="star5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404640"/>
            <a:ext cx="1008000" cy="863640"/>
          </a:xfrm>
          <a:prstGeom prst="star5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012000" y="2060640"/>
            <a:ext cx="2881080" cy="2871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66ff"/>
                </a:solidFill>
                <a:latin typeface="Kristen ITC"/>
              </a:rPr>
              <a:t>Venu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Comic Sans MS"/>
              </a:rPr>
              <a:t>Venus- 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372360" y="2421000"/>
            <a:ext cx="2255760" cy="2232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68360" y="2924280"/>
            <a:ext cx="4319640" cy="362520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There are no satellites on Ven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Venus is the hottest planet in the Solar System because the clouds trap the heat on the pla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1 year in Venus is 224.7 earth yea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It 107 million kilometres from the su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435640" y="5516640"/>
            <a:ext cx="1008000" cy="863640"/>
          </a:xfrm>
          <a:prstGeom prst="star5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43640" y="549360"/>
            <a:ext cx="1008000" cy="863640"/>
          </a:xfrm>
          <a:prstGeom prst="star5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308720" y="5516640"/>
            <a:ext cx="1008360" cy="863640"/>
          </a:xfrm>
          <a:prstGeom prst="star5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332000" y="333360"/>
            <a:ext cx="1008000" cy="863640"/>
          </a:xfrm>
          <a:prstGeom prst="star5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796000" y="2276640"/>
            <a:ext cx="2987640" cy="28717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Comic Sans MS"/>
              </a:rPr>
              <a:t>Earth - exci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979640" y="189000"/>
            <a:ext cx="518472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arth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156360" y="2637000"/>
            <a:ext cx="2284200" cy="22842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84720" y="5013360"/>
            <a:ext cx="24480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Comic Sans MS"/>
              </a:rPr>
              <a:t>Ea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1280" y="3141720"/>
            <a:ext cx="4319640" cy="3350880"/>
          </a:xfrm>
          <a:prstGeom prst="rect">
            <a:avLst/>
          </a:prstGeom>
          <a:noFill/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AU" sz="1800" spc="-1" strike="noStrike">
                <a:solidFill>
                  <a:srgbClr val="ffffff"/>
                </a:solidFill>
                <a:latin typeface="Comic Sans MS"/>
              </a:rPr>
              <a:t>Earth is the only planet fit for human lif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Comic Sans MS"/>
              </a:rPr>
              <a:t>Earth is 150 millions kilometres from the su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Comic Sans MS"/>
              </a:rPr>
              <a:t>The average temperature on Earth is 15.2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º Celsi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The word “Earth” means grou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404640"/>
            <a:ext cx="1008000" cy="863640"/>
          </a:xfrm>
          <a:prstGeom prst="star5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64000" y="5805360"/>
            <a:ext cx="1008360" cy="863640"/>
          </a:xfrm>
          <a:prstGeom prst="star5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308720" y="5805360"/>
            <a:ext cx="1008360" cy="863640"/>
          </a:xfrm>
          <a:prstGeom prst="star5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812000" y="476280"/>
            <a:ext cx="1008000" cy="863640"/>
          </a:xfrm>
          <a:prstGeom prst="star5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012000" y="2205000"/>
            <a:ext cx="2665440" cy="32889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Comic Sans MS"/>
              </a:rPr>
              <a:t>Mars- monke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195640" y="333360"/>
            <a:ext cx="4394160" cy="15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Mar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6227640" y="2565360"/>
            <a:ext cx="2273400" cy="25192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39640" y="2708280"/>
            <a:ext cx="4319640" cy="3768120"/>
          </a:xfrm>
          <a:prstGeom prst="rect">
            <a:avLst/>
          </a:prstGeom>
          <a:noFill/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AU" sz="1800" spc="-1" strike="noStrike">
                <a:solidFill>
                  <a:srgbClr val="ffffff"/>
                </a:solidFill>
                <a:latin typeface="Comic Sans MS"/>
              </a:rPr>
              <a:t>One year in Mars is 687 Earth day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Comic Sans MS"/>
              </a:rPr>
              <a:t>In Mars the average surface temperature is -87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º</a:t>
            </a:r>
            <a:r>
              <a:rPr b="1" lang="en-AU" sz="1800" spc="-1" strike="noStrike">
                <a:solidFill>
                  <a:srgbClr val="ffffff"/>
                </a:solidFill>
                <a:latin typeface="Comic Sans MS"/>
              </a:rPr>
              <a:t> Celsi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Comic Sans MS"/>
              </a:rPr>
              <a:t>Mars is made of mainly Carbon diox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Comic Sans MS"/>
              </a:rPr>
              <a:t>Mars has invisible clou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Comic Sans MS"/>
              </a:rPr>
              <a:t>Inside Mars there is a thin layer of frozen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380360" y="907920"/>
            <a:ext cx="1008000" cy="863640"/>
          </a:xfrm>
          <a:prstGeom prst="star5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64000" y="5805360"/>
            <a:ext cx="1008360" cy="863640"/>
          </a:xfrm>
          <a:prstGeom prst="star5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667640" y="5805360"/>
            <a:ext cx="1008000" cy="863640"/>
          </a:xfrm>
          <a:prstGeom prst="star5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4360" y="836640"/>
            <a:ext cx="1008000" cy="863640"/>
          </a:xfrm>
          <a:prstGeom prst="star5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867280" y="1052640"/>
            <a:ext cx="2952720" cy="2871720"/>
          </a:xfrm>
          <a:prstGeom prst="rect">
            <a:avLst/>
          </a:prstGeom>
          <a:gradFill rotWithShape="0">
            <a:gsLst>
              <a:gs pos="0">
                <a:srgbClr val="99ff33"/>
              </a:gs>
              <a:gs pos="100000">
                <a:srgbClr val="00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1403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Comic Sans MS"/>
              </a:rPr>
              <a:t>Jupiter- Jug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 rot="5400000">
            <a:off x="-2434680" y="3236040"/>
            <a:ext cx="6524640" cy="718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Jupiter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012000" y="1268280"/>
            <a:ext cx="2616120" cy="244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332000" y="2997360"/>
            <a:ext cx="4319640" cy="3314160"/>
          </a:xfrm>
          <a:prstGeom prst="rect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AU" sz="1800" spc="-1" strike="noStrike">
                <a:solidFill>
                  <a:srgbClr val="ffffff"/>
                </a:solidFill>
                <a:latin typeface="Comic Sans MS"/>
              </a:rPr>
              <a:t>Jupiter takes 9 hours, 58 minutes, and 30 seconds to make a 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Comic Sans MS"/>
              </a:rPr>
              <a:t>The average cloud temperature on Jupiter is -145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º Celsi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There are 16 satellites on Jupi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Jupiter was named after the ruler of Olymp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4581360"/>
            <a:ext cx="1008000" cy="863640"/>
          </a:xfrm>
          <a:prstGeom prst="star5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19280" y="1268280"/>
            <a:ext cx="1008000" cy="863640"/>
          </a:xfrm>
          <a:prstGeom prst="star5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156360" y="5661000"/>
            <a:ext cx="1008000" cy="863640"/>
          </a:xfrm>
          <a:prstGeom prst="star5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780000" y="1341360"/>
            <a:ext cx="1008000" cy="863640"/>
          </a:xfrm>
          <a:prstGeom prst="star5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403280" y="260280"/>
            <a:ext cx="45370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ff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66ff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upiter</a:t>
            </a:r>
            <a:endParaRPr b="1" lang="en-US" sz="1800" spc="1" strike="noStrike">
              <a:ln w="12600">
                <a:solidFill>
                  <a:srgbClr val="00ff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100000">
                    <a:srgbClr val="0066ff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651640" y="2565360"/>
            <a:ext cx="3044520" cy="2288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Comic Sans MS"/>
              </a:rPr>
              <a:t>Saturn- Sandwi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411280" y="189000"/>
            <a:ext cx="446580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00ffff"/>
                </a:solidFill>
                <a:latin typeface="Comic Sans MS"/>
              </a:rPr>
              <a:t>Saturn</a:t>
            </a:r>
            <a:endParaRPr b="1" lang="en-US" sz="1800" spc="1" strike="noStrike">
              <a:ln w="9360">
                <a:solidFill>
                  <a:srgbClr val="ff9900"/>
                </a:solidFill>
                <a:miter/>
              </a:ln>
              <a:solidFill>
                <a:srgbClr val="00ffff"/>
              </a:solidFill>
              <a:latin typeface="Comic Sans MS"/>
              <a:ea typeface="Comic Sans MS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940360" y="2708280"/>
            <a:ext cx="2519280" cy="20336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11280" y="3068640"/>
            <a:ext cx="4608360" cy="3076560"/>
          </a:xfrm>
          <a:prstGeom prst="rect">
            <a:avLst/>
          </a:prstGeom>
          <a:noFill/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At night time you can see Saturn's rings glow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aturn is 1.5 billions kilometres from the su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There are 18 satellites on Satur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One of the main ones is called Tit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524720" y="5734080"/>
            <a:ext cx="1008000" cy="863640"/>
          </a:xfrm>
          <a:prstGeom prst="star5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42920" y="404640"/>
            <a:ext cx="1008000" cy="863640"/>
          </a:xfrm>
          <a:prstGeom prst="star5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5157720"/>
            <a:ext cx="1008000" cy="863640"/>
          </a:xfrm>
          <a:prstGeom prst="star5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451640" y="1052640"/>
            <a:ext cx="1008000" cy="863640"/>
          </a:xfrm>
          <a:prstGeom prst="star5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867280" y="2492280"/>
            <a:ext cx="2881440" cy="2871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Comic Sans MS"/>
              </a:rPr>
              <a:t>Uranus- U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156360" y="2852640"/>
            <a:ext cx="2206440" cy="23036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2411280" y="404640"/>
            <a:ext cx="4392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Kahootz Fatty"/>
              </a:rPr>
              <a:t>Uranu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Kahootz Fatty"/>
              <a:ea typeface="Kahootz Fatty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3068640"/>
            <a:ext cx="4608360" cy="3076560"/>
          </a:xfrm>
          <a:prstGeom prst="rect">
            <a:avLst/>
          </a:prstGeom>
          <a:noFill/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AU" sz="1800" spc="-1" strike="noStrike">
                <a:solidFill>
                  <a:srgbClr val="ffffff"/>
                </a:solidFill>
                <a:latin typeface="Comic Sans MS"/>
              </a:rPr>
              <a:t>On Uranus the average surface temperature is -224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There are 15 satellites on Uran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Uranus is made of: 83% Hydrogen, 15% Helium, and 2% Metha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Uranus is a gas pla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940360" y="5734080"/>
            <a:ext cx="1008000" cy="863640"/>
          </a:xfrm>
          <a:prstGeom prst="star5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236000" y="404640"/>
            <a:ext cx="1008000" cy="863640"/>
          </a:xfrm>
          <a:prstGeom prst="star5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740720" y="5805360"/>
            <a:ext cx="1008000" cy="863640"/>
          </a:xfrm>
          <a:prstGeom prst="star5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00000" y="404640"/>
            <a:ext cx="1008000" cy="863640"/>
          </a:xfrm>
          <a:prstGeom prst="star5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5796000" y="2349360"/>
            <a:ext cx="2881440" cy="2871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Comic Sans MS"/>
              </a:rPr>
              <a:t>Neptune- naugh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012000" y="2708280"/>
            <a:ext cx="2347920" cy="21844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2627280" y="189000"/>
            <a:ext cx="320220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3399ff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Neptune</a:t>
            </a:r>
            <a:endParaRPr b="1" lang="en-US" sz="4400" spc="1" strike="noStrike">
              <a:ln w="12600">
                <a:solidFill>
                  <a:srgbClr val="3399ff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13" name=""/>
          <p:cNvSpPr/>
          <p:nvPr/>
        </p:nvSpPr>
        <p:spPr>
          <a:xfrm>
            <a:off x="468360" y="2924280"/>
            <a:ext cx="4608360" cy="3768120"/>
          </a:xfrm>
          <a:prstGeom prst="rect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Neptune is 4.5 billions kilometres away from the Su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Neptune's neighbouring planets and Uranus and Plu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Neptune was named after the god of the s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It is 60x the size of ear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It was discovered in 184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651640" y="5734080"/>
            <a:ext cx="1008000" cy="863640"/>
          </a:xfrm>
          <a:prstGeom prst="star5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524720" y="620640"/>
            <a:ext cx="1008000" cy="863640"/>
          </a:xfrm>
          <a:prstGeom prst="star5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524720" y="5661000"/>
            <a:ext cx="1008000" cy="863640"/>
          </a:xfrm>
          <a:prstGeom prst="star5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640" y="404640"/>
            <a:ext cx="1008000" cy="863640"/>
          </a:xfrm>
          <a:prstGeom prst="star5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8T00:13:50Z</dcterms:created>
  <dc:creator>Admin</dc:creator>
  <dc:description/>
  <dc:language>en-US</dc:language>
  <cp:lastModifiedBy>Admin</cp:lastModifiedBy>
  <dcterms:modified xsi:type="dcterms:W3CDTF">2009-08-18T00:21:34Z</dcterms:modified>
  <cp:revision>5</cp:revision>
  <dc:subject/>
  <dc:title>Order of the planets</dc:title>
</cp:coreProperties>
</file>